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1.png" ContentType="image/png"/>
  <Override PartName="/ppt/media/camera.wav" ContentType="audio/x-wav"/>
  <Override PartName="/ppt/media/image5.wmf" ContentType="image/x-wmf"/>
  <Override PartName="/ppt/media/image10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776F-0E2C-4AD8-ACEE-2FBC2BE91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38F3-5FD2-4F12-82B5-7384C16FD02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662E-CD3C-4EA2-A5E6-E96557003B4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186E-8819-4E44-98D2-53009756D76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8889-4DB3-49D3-9CB4-5564289DBF9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59C1-F5F7-4E1E-A8BA-46401BD7AA7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1BCD-5636-43D0-85CE-0CA995D22BD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13AA-211B-4E7F-9554-DC4BED960FD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10F4-FA54-4EC3-9174-9AFE93A5A7F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50F2-0FAD-40D4-9BA8-2454A9839B1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7CCE-719E-4A3E-BCD8-CB320F9A65D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CCEA-A6C2-4C25-96E5-052470D460B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6AB9-7195-4D37-B577-89EFECA0847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4291-1031-4F78-AA40-A906A15B2DB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7CE3-5E86-423B-9699-AE97A099738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2322-1EA2-4F25-9640-0175CFD8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AE5-46CA-4598-BDCF-70D6B7B6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ABF9-B2E0-4B9F-AC1C-6F8A3DF9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9A5F-8357-4ED2-9F8B-2DF47873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D03E-5FE5-4FC6-945D-A876D8AE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70B5-DB4F-4052-8605-A71CC58B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8448-B727-4CF4-BB4C-EBF6A5C0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580D-F306-4837-A8EA-37C0E293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42D8-A5FC-4F25-946E-C8C4E385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8018-0793-4574-83E9-2BE94FA7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41DA-493B-4492-8958-7C3EDAAF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E0E0-B177-4699-8A0F-39107747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B97B-8A4C-4757-9C0B-0BE864F1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ADFF-82B9-4528-9BCF-5F07C401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7149-E2BA-42CE-A5A3-2706F445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89A5-9F65-48F2-9353-6000DA01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7263-C28F-4887-9591-F0DBA6AC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E52A-AAEC-4D55-8006-67A2776D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AAA3-B97B-4AA1-83B6-D0377BA4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32E3-9828-4977-BA0F-93BB7884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9D8E-A5B5-4934-B1CA-AE45A8F4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CB8E-D69D-4C83-BE43-5E346656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8340-0D88-45D9-B752-0D39630E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55C-B4AD-4F1E-89EF-D0D03869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6B5D-2D6B-463D-939A-179E35AC124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3977-04E5-4272-A3E3-3A13932B865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1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4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6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189"/>
                </a:solidFill>
                <a:latin typeface="Comic Sans MS"/>
              </a:rPr>
              <a:t>Me llamo ___________.</a:t>
            </a:r>
            <a:br>
              <a:rPr sz="1200"/>
            </a:br>
            <a:r>
              <a:rPr b="0" lang="en-US" sz="1200" spc="-1" strike="noStrike">
                <a:solidFill>
                  <a:srgbClr val="ebd189"/>
                </a:solidFill>
                <a:latin typeface="Comic Sans MS"/>
              </a:rPr>
              <a:t>LA fecha es el 16 de febrero 2012</a:t>
            </a:r>
            <a:endParaRPr b="0" lang="en-US" sz="12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68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ropósito #42: ¿Qué es el pretérito?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ompleta con el verbo pasado.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Yo _________ fútbol ayer. (jugar)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Nosotras ________ . (bucear)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Mi hermano y yo ______ la plancha de vela. (practicar)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lena y Timothy no ________. (pescar)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Yo _______ mucho. (hablar)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9610-F670-45E5-B8F0-DBB53F4AF10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590920" y="2286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jugué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809880" y="2819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uceamo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4876920" y="3429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acticar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562720" y="4495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escar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2590920" y="5638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ablé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308C-FCDC-4FA4-A0BD-17DD9908CB7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00200" y="1599840"/>
            <a:ext cx="31240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ar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267080" y="4114800"/>
            <a:ext cx="2392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trabaj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trabaj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trabaj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552720" y="4114800"/>
            <a:ext cx="2667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rabaj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rabaj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67" name="Picture 5" descr="c:\Program Files\Microsoft Office\Clipart\standard\stddir1\bd05012_.wmf"/>
          <p:cNvPicPr/>
          <p:nvPr/>
        </p:nvPicPr>
        <p:blipFill>
          <a:blip r:embed="rId1"/>
          <a:stretch/>
        </p:blipFill>
        <p:spPr>
          <a:xfrm>
            <a:off x="6934320" y="120600"/>
            <a:ext cx="1779480" cy="15559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6"/>
          <p:cNvSpPr/>
          <p:nvPr/>
        </p:nvSpPr>
        <p:spPr>
          <a:xfrm>
            <a:off x="107100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69" name="Group 11"/>
          <p:cNvGrpSpPr/>
          <p:nvPr/>
        </p:nvGrpSpPr>
        <p:grpSpPr>
          <a:xfrm>
            <a:off x="1066680" y="3200400"/>
            <a:ext cx="2865600" cy="3350160"/>
            <a:chOff x="1066680" y="3200400"/>
            <a:chExt cx="2865600" cy="3350160"/>
          </a:xfrm>
        </p:grpSpPr>
        <p:sp>
          <p:nvSpPr>
            <p:cNvPr id="170" name="Text Box 8"/>
            <p:cNvSpPr/>
            <p:nvPr/>
          </p:nvSpPr>
          <p:spPr>
            <a:xfrm>
              <a:off x="1604520" y="5969160"/>
              <a:ext cx="167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trabaj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171" name="Picture 10" descr="c:\Program Files\Microsoft Office\Clipart\standard\stddir1\bd05153_.wmf"/>
            <p:cNvPicPr/>
            <p:nvPr/>
          </p:nvPicPr>
          <p:blipFill>
            <a:blip r:embed="rId2"/>
            <a:stretch/>
          </p:blipFill>
          <p:spPr>
            <a:xfrm>
              <a:off x="1066680" y="3200400"/>
              <a:ext cx="2865600" cy="2771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2F67-64DD-434A-8F49-6044F4D1367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1676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Verbs ending in </a:t>
            </a:r>
            <a:r>
              <a:rPr b="0" i="1" lang="es-ES_tradnl" sz="40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i="1" lang="es-ES_tradnl" sz="4000" spc="-1" strike="noStrike" u="sng">
                <a:solidFill>
                  <a:srgbClr val="ffffff"/>
                </a:solidFill>
                <a:uFillTx/>
                <a:latin typeface="Comic Sans MS"/>
              </a:rPr>
              <a:t>car</a:t>
            </a: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, </a:t>
            </a:r>
            <a:r>
              <a:rPr b="0" i="1" lang="es-ES_tradnl" sz="40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i="1" lang="es-ES_tradnl" sz="4000" spc="-1" strike="noStrike" u="sng">
                <a:solidFill>
                  <a:srgbClr val="ffffff"/>
                </a:solidFill>
                <a:uFillTx/>
                <a:latin typeface="Comic Sans MS"/>
              </a:rPr>
              <a:t>gar</a:t>
            </a: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, and</a:t>
            </a:r>
            <a:br>
              <a:rPr sz="4000"/>
            </a:br>
            <a:r>
              <a:rPr b="0" i="1" lang="es-ES_tradnl" sz="40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i="1" lang="es-ES_tradnl" sz="4000" spc="-1" strike="noStrike" u="sng">
                <a:solidFill>
                  <a:srgbClr val="ffffff"/>
                </a:solidFill>
                <a:uFillTx/>
                <a:latin typeface="Comic Sans MS"/>
              </a:rPr>
              <a:t>zar</a:t>
            </a:r>
            <a:r>
              <a:rPr b="0" i="1" lang="es-ES_tradnl" sz="4000" spc="-1" strike="noStrike">
                <a:solidFill>
                  <a:srgbClr val="ebd189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 have a spelling change in the “yo” form of the </a:t>
            </a:r>
            <a:r>
              <a:rPr b="0" i="1" lang="es-ES_tradnl" sz="4000" spc="-1" strike="noStrike">
                <a:solidFill>
                  <a:srgbClr val="ebd189"/>
                </a:solidFill>
                <a:latin typeface="Comic Sans MS"/>
              </a:rPr>
              <a:t>pretérito</a:t>
            </a: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4038120"/>
            <a:ext cx="6019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buscar      tocar        practicar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pagar        jugar        llegar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almorzar   empezar   comenzar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170720" y="533520"/>
            <a:ext cx="58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Unos Irregulares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6" name="Picture 6" descr="c:\Program Files\Microsoft Office\Clipart\standard\stddir4\pe02106_.wmf"/>
          <p:cNvPicPr/>
          <p:nvPr/>
        </p:nvPicPr>
        <p:blipFill>
          <a:blip r:embed="rId1"/>
          <a:stretch/>
        </p:blipFill>
        <p:spPr>
          <a:xfrm>
            <a:off x="6743880" y="4795920"/>
            <a:ext cx="2400120" cy="2062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amera.wav"/>
      </p:stSnd>
    </p:sndAc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6705-912E-4ED8-852C-26EEE9DB458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1066680" y="3808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The “yo” form of the </a:t>
            </a:r>
            <a:r>
              <a:rPr b="0" i="1" lang="es-ES_tradnl" sz="4000" spc="-1" strike="noStrike">
                <a:solidFill>
                  <a:srgbClr val="ebd189"/>
                </a:solidFill>
                <a:latin typeface="Comic Sans MS"/>
              </a:rPr>
              <a:t>pretérito</a:t>
            </a: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 changes to conserve the </a:t>
            </a:r>
            <a:r>
              <a:rPr b="0" i="1" lang="es-ES_tradnl" sz="4000" spc="-1" strike="noStrike" u="sng">
                <a:solidFill>
                  <a:srgbClr val="ebd189"/>
                </a:solidFill>
                <a:uFillTx/>
                <a:latin typeface="Comic Sans MS"/>
              </a:rPr>
              <a:t>sound</a:t>
            </a: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 of the infinitive: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1600200" y="3505320"/>
            <a:ext cx="2666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Comic Sans MS"/>
              </a:rPr>
              <a:t>-car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Comic Sans MS"/>
              </a:rPr>
              <a:t>-gar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Comic Sans MS"/>
              </a:rPr>
              <a:t>-zar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3809880" y="3505320"/>
            <a:ext cx="3124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-qué”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-gué”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-cé”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6095880" y="3505320"/>
            <a:ext cx="1905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tocé”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jugé”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rezé”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82" name="Group 9"/>
          <p:cNvGrpSpPr/>
          <p:nvPr/>
        </p:nvGrpSpPr>
        <p:grpSpPr>
          <a:xfrm>
            <a:off x="6553080" y="3657600"/>
            <a:ext cx="609840" cy="351000"/>
            <a:chOff x="6553080" y="3657600"/>
            <a:chExt cx="609840" cy="351000"/>
          </a:xfrm>
        </p:grpSpPr>
        <p:sp>
          <p:nvSpPr>
            <p:cNvPr id="183" name="Line 7"/>
            <p:cNvSpPr/>
            <p:nvPr/>
          </p:nvSpPr>
          <p:spPr>
            <a:xfrm>
              <a:off x="6553080" y="3657600"/>
              <a:ext cx="609840" cy="351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 flipH="1">
              <a:off x="6553080" y="3657600"/>
              <a:ext cx="609840" cy="351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85" name="Group 10"/>
          <p:cNvGrpSpPr/>
          <p:nvPr/>
        </p:nvGrpSpPr>
        <p:grpSpPr>
          <a:xfrm>
            <a:off x="6553080" y="4373640"/>
            <a:ext cx="609840" cy="350640"/>
            <a:chOff x="6553080" y="4373640"/>
            <a:chExt cx="609840" cy="350640"/>
          </a:xfrm>
        </p:grpSpPr>
        <p:sp>
          <p:nvSpPr>
            <p:cNvPr id="186" name="Line 11"/>
            <p:cNvSpPr/>
            <p:nvPr/>
          </p:nvSpPr>
          <p:spPr>
            <a:xfrm>
              <a:off x="6553080" y="4373640"/>
              <a:ext cx="609840" cy="350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7" name="Line 12"/>
            <p:cNvSpPr/>
            <p:nvPr/>
          </p:nvSpPr>
          <p:spPr>
            <a:xfrm flipH="1">
              <a:off x="6553080" y="4373640"/>
              <a:ext cx="609840" cy="350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88" name="Group 13"/>
          <p:cNvGrpSpPr/>
          <p:nvPr/>
        </p:nvGrpSpPr>
        <p:grpSpPr>
          <a:xfrm>
            <a:off x="6553080" y="4983120"/>
            <a:ext cx="609840" cy="351000"/>
            <a:chOff x="6553080" y="4983120"/>
            <a:chExt cx="609840" cy="351000"/>
          </a:xfrm>
        </p:grpSpPr>
        <p:sp>
          <p:nvSpPr>
            <p:cNvPr id="189" name="Line 14"/>
            <p:cNvSpPr/>
            <p:nvPr/>
          </p:nvSpPr>
          <p:spPr>
            <a:xfrm>
              <a:off x="6553080" y="4983120"/>
              <a:ext cx="609840" cy="351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0" name="Line 15"/>
            <p:cNvSpPr/>
            <p:nvPr/>
          </p:nvSpPr>
          <p:spPr>
            <a:xfrm flipH="1">
              <a:off x="6553080" y="4983120"/>
              <a:ext cx="609840" cy="351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</p:spTree>
  </p:cSld>
  <p:transition spd="med">
    <p:zoom dir="in"/>
    <p:sndAc>
      <p:stSnd>
        <p:snd r:embed="rId1" name="camera.wav"/>
      </p:stSnd>
    </p:sndAc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9424-526D-446E-83CB-E2A077FBFD2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257440" y="1599840"/>
            <a:ext cx="34290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ca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4114800"/>
            <a:ext cx="2133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bus</a:t>
            </a:r>
            <a:r>
              <a:rPr b="0" i="1" lang="es-ES_tradnl" sz="3200" spc="-1" strike="noStrike" u="sng">
                <a:solidFill>
                  <a:srgbClr val="eaeaea"/>
                </a:solidFill>
                <a:uFillTx/>
                <a:latin typeface="Comic Sans MS"/>
              </a:rPr>
              <a:t>qu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busc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busc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00040" y="4114800"/>
            <a:ext cx="2438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usc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usc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80492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6" name="Picture 11" descr="c:\Program Files\Microsoft Office\Clipart\standard\stddir1\bd04974_.wmf"/>
          <p:cNvPicPr/>
          <p:nvPr/>
        </p:nvPicPr>
        <p:blipFill>
          <a:blip r:embed="rId1"/>
          <a:stretch/>
        </p:blipFill>
        <p:spPr>
          <a:xfrm>
            <a:off x="1295280" y="304920"/>
            <a:ext cx="1841760" cy="220968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13"/>
          <p:cNvGrpSpPr/>
          <p:nvPr/>
        </p:nvGrpSpPr>
        <p:grpSpPr>
          <a:xfrm>
            <a:off x="6408720" y="3124080"/>
            <a:ext cx="2201760" cy="3350160"/>
            <a:chOff x="6408720" y="3124080"/>
            <a:chExt cx="2201760" cy="3350160"/>
          </a:xfrm>
        </p:grpSpPr>
        <p:sp>
          <p:nvSpPr>
            <p:cNvPr id="198" name="Text Box 8"/>
            <p:cNvSpPr/>
            <p:nvPr/>
          </p:nvSpPr>
          <p:spPr>
            <a:xfrm>
              <a:off x="6773400" y="5892840"/>
              <a:ext cx="140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busc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199" name="Picture 12" descr="c:\Program Files\Microsoft Office\Clipart\standard\stddir1\bd05609_.wmf"/>
            <p:cNvPicPr/>
            <p:nvPr/>
          </p:nvPicPr>
          <p:blipFill>
            <a:blip r:embed="rId2"/>
            <a:stretch/>
          </p:blipFill>
          <p:spPr>
            <a:xfrm>
              <a:off x="6408720" y="3124080"/>
              <a:ext cx="2201760" cy="2847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05C8-7F73-445C-BA99-64B4E0C36F4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257440" y="1599840"/>
            <a:ext cx="34290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ca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41148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practi</a:t>
            </a:r>
            <a:r>
              <a:rPr b="0" i="1" lang="es-ES_tradnl" sz="3200" spc="-1" strike="noStrike" u="sng">
                <a:solidFill>
                  <a:srgbClr val="eaeaea"/>
                </a:solidFill>
                <a:uFillTx/>
                <a:latin typeface="Comic Sans MS"/>
              </a:rPr>
              <a:t>qu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practic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practic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52680" y="4114800"/>
            <a:ext cx="2895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ractic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ractic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480492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05" name="Picture 6" descr="c:\Program Files\Microsoft Office\Clipart\standard\stddir1\bd04974_.wmf"/>
          <p:cNvPicPr/>
          <p:nvPr/>
        </p:nvPicPr>
        <p:blipFill>
          <a:blip r:embed="rId1"/>
          <a:stretch/>
        </p:blipFill>
        <p:spPr>
          <a:xfrm>
            <a:off x="1295280" y="304920"/>
            <a:ext cx="1841760" cy="220968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11"/>
          <p:cNvGrpSpPr/>
          <p:nvPr/>
        </p:nvGrpSpPr>
        <p:grpSpPr>
          <a:xfrm>
            <a:off x="6332400" y="3200400"/>
            <a:ext cx="2430720" cy="3273840"/>
            <a:chOff x="6332400" y="3200400"/>
            <a:chExt cx="2430720" cy="3273840"/>
          </a:xfrm>
        </p:grpSpPr>
        <p:sp>
          <p:nvSpPr>
            <p:cNvPr id="207" name="Text Box 8"/>
            <p:cNvSpPr/>
            <p:nvPr/>
          </p:nvSpPr>
          <p:spPr>
            <a:xfrm>
              <a:off x="6648120" y="5892840"/>
              <a:ext cx="181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practic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08" name="Picture 10" descr="c:\Program Files\Common Files\Microsoft Shared\Clipart\cagcat50\PE01686_.wmf"/>
            <p:cNvPicPr/>
            <p:nvPr/>
          </p:nvPicPr>
          <p:blipFill>
            <a:blip r:embed="rId2"/>
            <a:stretch/>
          </p:blipFill>
          <p:spPr>
            <a:xfrm>
              <a:off x="6332400" y="3200400"/>
              <a:ext cx="2430720" cy="2647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6E43-18A5-4C5D-9B6D-B98D75851BD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257440" y="1599840"/>
            <a:ext cx="34290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ga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41148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pa</a:t>
            </a:r>
            <a:r>
              <a:rPr b="0" i="1" lang="es-ES_tradnl" sz="3200" spc="-1" strike="noStrike" u="sng">
                <a:solidFill>
                  <a:srgbClr val="eaeaea"/>
                </a:solidFill>
                <a:uFillTx/>
                <a:latin typeface="Comic Sans MS"/>
              </a:rPr>
              <a:t>gu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pag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pag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52680" y="4114800"/>
            <a:ext cx="2895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ag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ag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480492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14" name="Picture 10" descr="c:\Program Files\Microsoft Office\Clipart\standard\stddir1\bd07225_.wmf"/>
          <p:cNvPicPr/>
          <p:nvPr/>
        </p:nvPicPr>
        <p:blipFill>
          <a:blip r:embed="rId1"/>
          <a:stretch/>
        </p:blipFill>
        <p:spPr>
          <a:xfrm>
            <a:off x="1219320" y="341280"/>
            <a:ext cx="2133360" cy="171612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2"/>
          <p:cNvGrpSpPr/>
          <p:nvPr/>
        </p:nvGrpSpPr>
        <p:grpSpPr>
          <a:xfrm>
            <a:off x="6400800" y="2971800"/>
            <a:ext cx="2209680" cy="3502440"/>
            <a:chOff x="6400800" y="2971800"/>
            <a:chExt cx="2209680" cy="3502440"/>
          </a:xfrm>
        </p:grpSpPr>
        <p:sp>
          <p:nvSpPr>
            <p:cNvPr id="216" name="Text Box 8"/>
            <p:cNvSpPr/>
            <p:nvPr/>
          </p:nvSpPr>
          <p:spPr>
            <a:xfrm>
              <a:off x="6914520" y="5892840"/>
              <a:ext cx="127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pag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17" name="Picture 11" descr="c:\Program Files\Microsoft Office\Clipart\standard\stddir1\bd04948_.wmf"/>
            <p:cNvPicPr/>
            <p:nvPr/>
          </p:nvPicPr>
          <p:blipFill>
            <a:blip r:embed="rId2"/>
            <a:stretch/>
          </p:blipFill>
          <p:spPr>
            <a:xfrm>
              <a:off x="6400800" y="2971800"/>
              <a:ext cx="2209680" cy="2940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0503-6B54-4D1B-9655-ED4CE030B27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257440" y="1599840"/>
            <a:ext cx="34290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ga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41148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ju</a:t>
            </a:r>
            <a:r>
              <a:rPr b="0" i="1" lang="es-ES_tradnl" sz="3200" spc="-1" strike="noStrike" u="sng">
                <a:solidFill>
                  <a:srgbClr val="eaeaea"/>
                </a:solidFill>
                <a:uFillTx/>
                <a:latin typeface="Comic Sans MS"/>
              </a:rPr>
              <a:t>gu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jug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jug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52680" y="4114800"/>
            <a:ext cx="2895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jug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jug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480492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23" name="Picture 6" descr="c:\Program Files\Microsoft Office\Clipart\standard\stddir1\bd07225_.wmf"/>
          <p:cNvPicPr/>
          <p:nvPr/>
        </p:nvPicPr>
        <p:blipFill>
          <a:blip r:embed="rId1"/>
          <a:stretch/>
        </p:blipFill>
        <p:spPr>
          <a:xfrm>
            <a:off x="1219320" y="341280"/>
            <a:ext cx="2133360" cy="171612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11"/>
          <p:cNvGrpSpPr/>
          <p:nvPr/>
        </p:nvGrpSpPr>
        <p:grpSpPr>
          <a:xfrm>
            <a:off x="6324480" y="3124080"/>
            <a:ext cx="2422800" cy="3350160"/>
            <a:chOff x="6324480" y="3124080"/>
            <a:chExt cx="2422800" cy="3350160"/>
          </a:xfrm>
        </p:grpSpPr>
        <p:sp>
          <p:nvSpPr>
            <p:cNvPr id="225" name="Text Box 8"/>
            <p:cNvSpPr/>
            <p:nvPr/>
          </p:nvSpPr>
          <p:spPr>
            <a:xfrm>
              <a:off x="6977160" y="5892840"/>
              <a:ext cx="115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jug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26" name="Picture 10" descr="c:\Program Files\Microsoft Office\Clipart\standard\stddir1\bd05649_.wmf"/>
            <p:cNvPicPr/>
            <p:nvPr/>
          </p:nvPicPr>
          <p:blipFill>
            <a:blip r:embed="rId2"/>
            <a:stretch/>
          </p:blipFill>
          <p:spPr>
            <a:xfrm>
              <a:off x="6324480" y="3124080"/>
              <a:ext cx="2422800" cy="2740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1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6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6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D664-E81C-4E06-87FA-38ED8AF15AC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257440" y="1599840"/>
            <a:ext cx="34290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za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41148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almor</a:t>
            </a:r>
            <a:r>
              <a:rPr b="0" i="1" lang="es-ES_tradnl" sz="3200" spc="-1" strike="noStrike" u="sng">
                <a:solidFill>
                  <a:srgbClr val="eaeaea"/>
                </a:solidFill>
                <a:uFillTx/>
                <a:latin typeface="Comic Sans MS"/>
              </a:rPr>
              <a:t>c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almorz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almorz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52680" y="4114800"/>
            <a:ext cx="2895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lmorz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lmorz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480492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32" name="Picture 6" descr="c:\Program Files\Microsoft Office\Clipart\standard\stddir1\bd07225_.wmf"/>
          <p:cNvPicPr/>
          <p:nvPr/>
        </p:nvPicPr>
        <p:blipFill>
          <a:blip r:embed="rId1"/>
          <a:stretch/>
        </p:blipFill>
        <p:spPr>
          <a:xfrm>
            <a:off x="1219320" y="341280"/>
            <a:ext cx="2133360" cy="171612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11"/>
          <p:cNvGrpSpPr/>
          <p:nvPr/>
        </p:nvGrpSpPr>
        <p:grpSpPr>
          <a:xfrm>
            <a:off x="6172200" y="3962520"/>
            <a:ext cx="2755800" cy="2511720"/>
            <a:chOff x="6172200" y="3962520"/>
            <a:chExt cx="2755800" cy="2511720"/>
          </a:xfrm>
        </p:grpSpPr>
        <p:sp>
          <p:nvSpPr>
            <p:cNvPr id="234" name="Text Box 8"/>
            <p:cNvSpPr/>
            <p:nvPr/>
          </p:nvSpPr>
          <p:spPr>
            <a:xfrm>
              <a:off x="6635520" y="5892840"/>
              <a:ext cx="183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almorz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35" name="Picture 10" descr="c:\Program Files\Microsoft Office\Clipart\standard\stddir3\fd00723_.wmf"/>
            <p:cNvPicPr/>
            <p:nvPr/>
          </p:nvPicPr>
          <p:blipFill>
            <a:blip r:embed="rId2"/>
            <a:stretch/>
          </p:blipFill>
          <p:spPr>
            <a:xfrm>
              <a:off x="6172200" y="3962520"/>
              <a:ext cx="2755800" cy="1550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7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879C-9496-4B00-A028-06C36B74D53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257440" y="1599840"/>
            <a:ext cx="34290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za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41148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empe</a:t>
            </a:r>
            <a:r>
              <a:rPr b="0" i="1" lang="es-ES_tradnl" sz="3200" spc="-1" strike="noStrike" u="sng">
                <a:solidFill>
                  <a:srgbClr val="eaeaea"/>
                </a:solidFill>
                <a:uFillTx/>
                <a:latin typeface="Comic Sans MS"/>
              </a:rPr>
              <a:t>c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empez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empez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52680" y="4114800"/>
            <a:ext cx="2895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mpez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mpez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80492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41" name="Picture 6" descr="c:\Program Files\Microsoft Office\Clipart\standard\stddir1\bd07225_.wmf"/>
          <p:cNvPicPr/>
          <p:nvPr/>
        </p:nvPicPr>
        <p:blipFill>
          <a:blip r:embed="rId1"/>
          <a:stretch/>
        </p:blipFill>
        <p:spPr>
          <a:xfrm>
            <a:off x="1219320" y="341280"/>
            <a:ext cx="2133360" cy="1716120"/>
          </a:xfrm>
          <a:prstGeom prst="rect">
            <a:avLst/>
          </a:prstGeom>
          <a:ln w="0">
            <a:noFill/>
          </a:ln>
        </p:spPr>
      </p:pic>
      <p:grpSp>
        <p:nvGrpSpPr>
          <p:cNvPr id="242" name="Group 11"/>
          <p:cNvGrpSpPr/>
          <p:nvPr/>
        </p:nvGrpSpPr>
        <p:grpSpPr>
          <a:xfrm>
            <a:off x="6553080" y="3124080"/>
            <a:ext cx="1932120" cy="3350160"/>
            <a:chOff x="6553080" y="3124080"/>
            <a:chExt cx="1932120" cy="3350160"/>
          </a:xfrm>
        </p:grpSpPr>
        <p:sp>
          <p:nvSpPr>
            <p:cNvPr id="243" name="Text Box 8"/>
            <p:cNvSpPr/>
            <p:nvPr/>
          </p:nvSpPr>
          <p:spPr>
            <a:xfrm>
              <a:off x="6676560" y="5892840"/>
              <a:ext cx="1753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empez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44" name="Picture 10" descr="c:\Program Files\Microsoft Office\Clipart\standard\stddir1\bd05037_.wmf"/>
            <p:cNvPicPr/>
            <p:nvPr/>
          </p:nvPicPr>
          <p:blipFill>
            <a:blip r:embed="rId2"/>
            <a:stretch/>
          </p:blipFill>
          <p:spPr>
            <a:xfrm>
              <a:off x="6553080" y="3124080"/>
              <a:ext cx="1932120" cy="2730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98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3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8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8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Corregimos la tarea.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Workbook 57 Ex 8 and 9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066320" y="1676520"/>
            <a:ext cx="7239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mic Sans MS"/>
              </a:rPr>
              <a:t>¿Qué _________ tú? (comprar)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mic Sans MS"/>
              </a:rPr>
              <a:t>_____________ una raqueta. (comprar)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mic Sans MS"/>
              </a:rPr>
              <a:t>¿Dónde la ____________? (comprar)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mic Sans MS"/>
              </a:rPr>
              <a:t>La ____________ en una tienda en el centro comercial. (comprar)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mic Sans MS"/>
              </a:rPr>
              <a:t>¿Cuánto ________? (pagar)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mic Sans MS"/>
              </a:rPr>
              <a:t>______________ cinco mil pesos. (pagar)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8BCD-15F8-4AB9-9F3E-1DB1FC80E1F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2743200" y="1523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omprast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9" name="TextBox 6"/>
          <p:cNvSpPr/>
          <p:nvPr/>
        </p:nvSpPr>
        <p:spPr>
          <a:xfrm>
            <a:off x="220968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ompré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3809880" y="30481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omprast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1" name="TextBox 8"/>
          <p:cNvSpPr/>
          <p:nvPr/>
        </p:nvSpPr>
        <p:spPr>
          <a:xfrm>
            <a:off x="2590920" y="3657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ompré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2" name="TextBox 9"/>
          <p:cNvSpPr/>
          <p:nvPr/>
        </p:nvSpPr>
        <p:spPr>
          <a:xfrm>
            <a:off x="2971800" y="4572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agast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3" name="TextBox 10"/>
          <p:cNvSpPr/>
          <p:nvPr/>
        </p:nvSpPr>
        <p:spPr>
          <a:xfrm>
            <a:off x="2057400" y="4952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agué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4B1A-4868-4692-93A6-186BBF0860C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62040" y="1782360"/>
            <a:ext cx="60199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El </a:t>
            </a:r>
            <a:r>
              <a:rPr b="0" lang="en-US" sz="5400" spc="-1" strike="noStrike" u="sng">
                <a:solidFill>
                  <a:srgbClr val="ebd189"/>
                </a:solidFill>
                <a:uFillTx/>
                <a:latin typeface="Comic Sans MS"/>
              </a:rPr>
              <a:t>Pretérito</a:t>
            </a:r>
            <a:br>
              <a:rPr sz="5400"/>
            </a:b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de los verbos</a:t>
            </a:r>
            <a:endParaRPr b="0" lang="en-US" sz="5400" spc="-1" strike="noStrike">
              <a:solidFill>
                <a:srgbClr val="ebd189"/>
              </a:solidFill>
              <a:latin typeface="Comic Sans MS"/>
            </a:endParaRPr>
          </a:p>
        </p:txBody>
      </p:sp>
      <p:pic>
        <p:nvPicPr>
          <p:cNvPr id="118" name="Picture 4" descr="c:\Program Files\Microsoft Office\Clipart\standard\stddir2\bs01054_.wmf"/>
          <p:cNvPicPr/>
          <p:nvPr/>
        </p:nvPicPr>
        <p:blipFill>
          <a:blip r:embed="rId1"/>
          <a:stretch/>
        </p:blipFill>
        <p:spPr>
          <a:xfrm>
            <a:off x="3122640" y="4098960"/>
            <a:ext cx="2973240" cy="2504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amera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9144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mic Sans MS"/>
              </a:rPr>
              <a:t>Rewrite in plural.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0" lang="es-ES" sz="2800" spc="-1" strike="noStrike">
                <a:solidFill>
                  <a:srgbClr val="eaeaea"/>
                </a:solidFill>
                <a:latin typeface="Comic Sans MS"/>
              </a:rPr>
              <a:t>Tomó el sol.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mic Sans MS"/>
              </a:rPr>
              <a:t>Ellos tomaron el sol.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es-ES" sz="2800" spc="-1" strike="noStrike">
                <a:solidFill>
                  <a:srgbClr val="eaeaea"/>
                </a:solidFill>
                <a:latin typeface="Comic Sans MS"/>
              </a:rPr>
              <a:t>Nadó en el mar.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mic Sans MS"/>
              </a:rPr>
              <a:t>Ellos nadaron en el mar.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es-ES" sz="2800" spc="-1" strike="noStrike">
                <a:solidFill>
                  <a:srgbClr val="eaeaea"/>
                </a:solidFill>
                <a:latin typeface="Comic Sans MS"/>
              </a:rPr>
              <a:t>Buceó.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mic Sans MS"/>
              </a:rPr>
              <a:t>Ellos bucearon.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</a:t>
            </a:r>
            <a:r>
              <a:rPr b="0" lang="es-ES" sz="2800" spc="-1" strike="noStrike">
                <a:solidFill>
                  <a:srgbClr val="eaeaea"/>
                </a:solidFill>
                <a:latin typeface="Comic Sans MS"/>
              </a:rPr>
              <a:t>Esquió en el agua.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mic Sans MS"/>
              </a:rPr>
              <a:t>Esquiaron en el agua.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5.</a:t>
            </a:r>
            <a:r>
              <a:rPr b="0" lang="es-ES" sz="2800" spc="-1" strike="noStrike">
                <a:solidFill>
                  <a:srgbClr val="eaeaea"/>
                </a:solidFill>
                <a:latin typeface="Comic Sans MS"/>
              </a:rPr>
              <a:t>Practicó la plancha de vela.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mic Sans MS"/>
              </a:rPr>
              <a:t>Practicaron la plancha de vela.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6.</a:t>
            </a:r>
            <a:r>
              <a:rPr b="0" lang="es-ES" sz="2800" spc="-1" strike="noStrike">
                <a:solidFill>
                  <a:srgbClr val="eaeaea"/>
                </a:solidFill>
                <a:latin typeface="Comic Sans MS"/>
              </a:rPr>
              <a:t>Lo pasó muy bien en la playa.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mic Sans MS"/>
              </a:rPr>
              <a:t>Lo pasaron muy bien en la playa.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marL="514440" indent="-5144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4DFF-B1DA-46E2-AC00-4F4A296AE1F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5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2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9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6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3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0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7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4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1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8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5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2" dur="1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1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La Tarea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Workbook Pg 58 Exercise 10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B1BC-C694-4080-B0A4-78C153CBDC2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0DD7-F629-4397-881B-9642358952B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90720" y="4191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I went to the store.</a:t>
            </a:r>
            <a:endParaRPr b="0" lang="en-US" sz="36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I bought a shirt.</a:t>
            </a:r>
            <a:endParaRPr b="0" lang="en-US" sz="36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I paid in cash.</a:t>
            </a:r>
            <a:endParaRPr b="0" lang="en-US" sz="36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562040" y="22860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El </a:t>
            </a:r>
            <a:r>
              <a:rPr b="0" lang="en-US" sz="5400" spc="-1" strike="noStrike" u="sng">
                <a:solidFill>
                  <a:srgbClr val="ebd189"/>
                </a:solidFill>
                <a:uFillTx/>
                <a:latin typeface="Comic Sans MS"/>
              </a:rPr>
              <a:t>Pretérito</a:t>
            </a: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1585440" y="1536840"/>
            <a:ext cx="645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bd18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is a </a:t>
            </a:r>
            <a:r>
              <a:rPr b="0" lang="en-US" sz="3600" spc="-1" strike="noStrike" u="sng">
                <a:solidFill>
                  <a:srgbClr val="ebd189"/>
                </a:solidFill>
                <a:uFillTx/>
                <a:latin typeface="Comic Sans MS"/>
              </a:rPr>
              <a:t>past</a:t>
            </a: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 tense (“-ed”)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bd18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talks about </a:t>
            </a:r>
            <a:r>
              <a:rPr b="0" lang="en-US" sz="3600" spc="-1" strike="noStrike" u="sng">
                <a:solidFill>
                  <a:srgbClr val="ebd189"/>
                </a:solidFill>
                <a:uFillTx/>
                <a:latin typeface="Comic Sans MS"/>
              </a:rPr>
              <a:t>what happened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bd18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is a </a:t>
            </a:r>
            <a:r>
              <a:rPr b="0" lang="en-US" sz="3600" spc="-1" strike="noStrike" u="sng">
                <a:solidFill>
                  <a:srgbClr val="ebd189"/>
                </a:solidFill>
                <a:uFillTx/>
                <a:latin typeface="Comic Sans MS"/>
              </a:rPr>
              <a:t>completed action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B9FA-DAC4-452C-8260-8D727A3FB9C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The </a:t>
            </a:r>
            <a:r>
              <a:rPr b="0" i="1" lang="en-US" sz="4400" spc="-1" strike="noStrike">
                <a:solidFill>
                  <a:srgbClr val="ebd189"/>
                </a:solidFill>
                <a:latin typeface="Comic Sans MS"/>
              </a:rPr>
              <a:t>stem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 for regular verbs in the </a:t>
            </a:r>
            <a:r>
              <a:rPr b="0" lang="en-US" sz="4400" spc="-1" strike="noStrike" u="sng">
                <a:solidFill>
                  <a:srgbClr val="ebd189"/>
                </a:solidFill>
                <a:uFillTx/>
                <a:latin typeface="Comic Sans MS"/>
              </a:rPr>
              <a:t>pretérito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 is the infinitive stem.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oma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om-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Habla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habl-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B52C-1478-419D-ABE7-E11ADB75AD9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Comic Sans MS"/>
              </a:rPr>
              <a:t>Pretérito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 endings for </a:t>
            </a:r>
            <a:r>
              <a:rPr b="0" i="1" lang="en-US" sz="4400" spc="-1" strike="noStrike">
                <a:solidFill>
                  <a:srgbClr val="ebd189"/>
                </a:solidFill>
                <a:latin typeface="Comic Sans MS"/>
              </a:rPr>
              <a:t>-ar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 verbs are: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37339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               </a:t>
            </a: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-é     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               </a:t>
            </a: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-aste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               </a:t>
            </a: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-ó     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30480" y="37339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-amo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-aron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2133720" y="3429000"/>
            <a:ext cx="5105160" cy="29718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4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52BD-3383-4043-B795-6A900D3D29F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066680" y="304920"/>
            <a:ext cx="3657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Comic Sans MS"/>
              </a:rPr>
              <a:t>REMEMBER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3" name="Picture 3" descr="c:\Program Files\Microsoft Office\Clipart\standard\stddir2\bs00950_.wmf"/>
          <p:cNvPicPr/>
          <p:nvPr/>
        </p:nvPicPr>
        <p:blipFill>
          <a:blip r:embed="rId1"/>
          <a:stretch/>
        </p:blipFill>
        <p:spPr>
          <a:xfrm>
            <a:off x="6781680" y="228600"/>
            <a:ext cx="2163960" cy="22683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1905120" y="2698920"/>
            <a:ext cx="5715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bd18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accents on the “yo” form   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and the “él / ella / Ud.” 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form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bd18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-ar  “nosotros” form is 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the same in present and 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ebd189"/>
                </a:solidFill>
                <a:latin typeface="Comic Sans MS"/>
              </a:rPr>
              <a:t>pretérito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2" name="camera.wav"/>
      </p:stSnd>
    </p:sndAc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¿Comó forma el pretérito?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6680" y="22096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buClr>
                <a:srgbClr val="ffff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Quita “AR”- hablar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514440" indent="-514440" algn="ctr">
              <a:spcBef>
                <a:spcPts val="1001"/>
              </a:spcBef>
              <a:buClr>
                <a:srgbClr val="ffff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Guarda STEM-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abl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514440" indent="-514440" algn="ctr">
              <a:spcBef>
                <a:spcPts val="1001"/>
              </a:spcBef>
              <a:buClr>
                <a:srgbClr val="ffff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Añade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   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5F88-6A82-4D67-8673-B42CDBC566A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Multiply 5"/>
          <p:cNvSpPr/>
          <p:nvPr/>
        </p:nvSpPr>
        <p:spPr>
          <a:xfrm>
            <a:off x="4800600" y="2286000"/>
            <a:ext cx="609480" cy="457200"/>
          </a:xfrm>
          <a:custGeom>
            <a:avLst/>
            <a:gdLst>
              <a:gd name="textAreaLeft" fmla="*/ 114120 w 609480"/>
              <a:gd name="textAreaRight" fmla="*/ 495360 w 609480"/>
              <a:gd name="textAreaTop" fmla="*/ 66600 h 457200"/>
              <a:gd name="textAreaBottom" fmla="*/ 390600 h 457200"/>
            </a:gdLst>
            <a:ahLst/>
            <a:rect l="textAreaLeft" t="textAreaTop" r="textAreaRight" b="textAreaBottom"/>
            <a:pathLst>
              <a:path w="609600" h="457200">
                <a:moveTo>
                  <a:pt x="114151" y="152821"/>
                </a:moveTo>
                <a:lnTo>
                  <a:pt x="178671" y="66795"/>
                </a:lnTo>
                <a:lnTo>
                  <a:pt x="304800" y="161392"/>
                </a:lnTo>
                <a:lnTo>
                  <a:pt x="430929" y="66795"/>
                </a:lnTo>
                <a:lnTo>
                  <a:pt x="495449" y="152821"/>
                </a:lnTo>
                <a:lnTo>
                  <a:pt x="394411" y="228600"/>
                </a:lnTo>
                <a:lnTo>
                  <a:pt x="495449" y="304379"/>
                </a:lnTo>
                <a:lnTo>
                  <a:pt x="430929" y="390405"/>
                </a:lnTo>
                <a:lnTo>
                  <a:pt x="304800" y="295808"/>
                </a:lnTo>
                <a:lnTo>
                  <a:pt x="178671" y="390405"/>
                </a:lnTo>
                <a:lnTo>
                  <a:pt x="114151" y="304379"/>
                </a:lnTo>
                <a:lnTo>
                  <a:pt x="215189" y="2286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9" name="Multiply 6"/>
          <p:cNvSpPr/>
          <p:nvPr/>
        </p:nvSpPr>
        <p:spPr>
          <a:xfrm>
            <a:off x="7010280" y="2362320"/>
            <a:ext cx="457200" cy="457200"/>
          </a:xfrm>
          <a:custGeom>
            <a:avLst/>
            <a:gdLst>
              <a:gd name="textAreaLeft" fmla="*/ 71640 w 457200"/>
              <a:gd name="textAreaRight" fmla="*/ 385560 w 457200"/>
              <a:gd name="textAreaTop" fmla="*/ 71640 h 457200"/>
              <a:gd name="textAreaBottom" fmla="*/ 385560 h 457200"/>
            </a:gdLst>
            <a:ahLst/>
            <a:rect l="textAreaLeft" t="textAreaTop" r="textAreaRight" b="textAreaBottom"/>
            <a:pathLst>
              <a:path w="457200" h="457200">
                <a:moveTo>
                  <a:pt x="71789" y="147827"/>
                </a:moveTo>
                <a:lnTo>
                  <a:pt x="147827" y="71789"/>
                </a:lnTo>
                <a:lnTo>
                  <a:pt x="228600" y="152562"/>
                </a:lnTo>
                <a:lnTo>
                  <a:pt x="309373" y="71789"/>
                </a:lnTo>
                <a:lnTo>
                  <a:pt x="385411" y="147827"/>
                </a:lnTo>
                <a:lnTo>
                  <a:pt x="304638" y="228600"/>
                </a:lnTo>
                <a:lnTo>
                  <a:pt x="385411" y="309373"/>
                </a:lnTo>
                <a:lnTo>
                  <a:pt x="309373" y="385411"/>
                </a:lnTo>
                <a:lnTo>
                  <a:pt x="228600" y="304638"/>
                </a:lnTo>
                <a:lnTo>
                  <a:pt x="147827" y="385411"/>
                </a:lnTo>
                <a:lnTo>
                  <a:pt x="71789" y="309373"/>
                </a:lnTo>
                <a:lnTo>
                  <a:pt x="152562" y="2286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632448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Narrow"/>
              </a:rPr>
              <a:t>é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7315200" y="3886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Narrow"/>
              </a:rPr>
              <a:t>amo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5943600" y="449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Narrow"/>
              </a:rPr>
              <a:t>ast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624852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Narrow"/>
              </a:rPr>
              <a:t>ó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4" name="TextBox 12"/>
          <p:cNvSpPr/>
          <p:nvPr/>
        </p:nvSpPr>
        <p:spPr>
          <a:xfrm>
            <a:off x="7238880" y="5181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Narrow"/>
              </a:rPr>
              <a:t>ar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EDC9-6015-44E6-BE50-EC4C77E7620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00200" y="1599840"/>
            <a:ext cx="31240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ar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800240" y="4114800"/>
            <a:ext cx="1935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tom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tom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tom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963840" y="4114800"/>
            <a:ext cx="2179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om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om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49" name="Picture 5" descr="c:\Program Files\Microsoft Office\Clipart\standard\stddir1\bd05012_.wmf"/>
          <p:cNvPicPr/>
          <p:nvPr/>
        </p:nvPicPr>
        <p:blipFill>
          <a:blip r:embed="rId1"/>
          <a:stretch/>
        </p:blipFill>
        <p:spPr>
          <a:xfrm>
            <a:off x="6934320" y="120600"/>
            <a:ext cx="1779480" cy="15559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107100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51" name="Group 9"/>
          <p:cNvGrpSpPr/>
          <p:nvPr/>
        </p:nvGrpSpPr>
        <p:grpSpPr>
          <a:xfrm>
            <a:off x="1447920" y="2971800"/>
            <a:ext cx="1974600" cy="3578760"/>
            <a:chOff x="1447920" y="2971800"/>
            <a:chExt cx="1974600" cy="3578760"/>
          </a:xfrm>
        </p:grpSpPr>
        <p:pic>
          <p:nvPicPr>
            <p:cNvPr id="152" name="Picture 7" descr="c:\Program Files\Microsoft Office\Clipart\standard\stddir1\bd05307_.wmf"/>
            <p:cNvPicPr/>
            <p:nvPr/>
          </p:nvPicPr>
          <p:blipFill>
            <a:blip r:embed="rId2"/>
            <a:stretch/>
          </p:blipFill>
          <p:spPr>
            <a:xfrm>
              <a:off x="1447920" y="2971800"/>
              <a:ext cx="19746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8"/>
            <p:cNvSpPr/>
            <p:nvPr/>
          </p:nvSpPr>
          <p:spPr>
            <a:xfrm>
              <a:off x="1793160" y="5969160"/>
              <a:ext cx="129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tom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B0BB-F380-4D59-8CE9-8B37F077957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1599840"/>
            <a:ext cx="31240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ar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00240" y="4114800"/>
            <a:ext cx="1935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habl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habl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habl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963840" y="4114800"/>
            <a:ext cx="2179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habl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habla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habl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58" name="Picture 5" descr="c:\Program Files\Microsoft Office\Clipart\standard\stddir1\bd05012_.wmf"/>
          <p:cNvPicPr/>
          <p:nvPr/>
        </p:nvPicPr>
        <p:blipFill>
          <a:blip r:embed="rId1"/>
          <a:stretch/>
        </p:blipFill>
        <p:spPr>
          <a:xfrm>
            <a:off x="6934320" y="120600"/>
            <a:ext cx="1779480" cy="15559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107100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60" name="Group 11"/>
          <p:cNvGrpSpPr/>
          <p:nvPr/>
        </p:nvGrpSpPr>
        <p:grpSpPr>
          <a:xfrm>
            <a:off x="1066680" y="3276720"/>
            <a:ext cx="2936880" cy="3273840"/>
            <a:chOff x="1066680" y="3276720"/>
            <a:chExt cx="2936880" cy="3273840"/>
          </a:xfrm>
        </p:grpSpPr>
        <p:sp>
          <p:nvSpPr>
            <p:cNvPr id="161" name="Text Box 9"/>
            <p:cNvSpPr/>
            <p:nvPr/>
          </p:nvSpPr>
          <p:spPr>
            <a:xfrm>
              <a:off x="1747800" y="5969160"/>
              <a:ext cx="138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habl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162" name="Picture 10" descr="c:\Program Files\Microsoft Office\Clipart\standard\stddir4\pe02546_.wmf"/>
            <p:cNvPicPr/>
            <p:nvPr/>
          </p:nvPicPr>
          <p:blipFill>
            <a:blip r:embed="rId2"/>
            <a:stretch/>
          </p:blipFill>
          <p:spPr>
            <a:xfrm>
              <a:off x="1066680" y="3276720"/>
              <a:ext cx="2936880" cy="2682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7T16:42:38Z</dcterms:created>
  <dc:creator>olseng</dc:creator>
  <dc:description/>
  <dc:language>en-US</dc:language>
  <cp:lastModifiedBy>Sherice</cp:lastModifiedBy>
  <dcterms:modified xsi:type="dcterms:W3CDTF">2012-02-16T14:20:46Z</dcterms:modified>
  <cp:revision>68</cp:revision>
  <dc:subject/>
  <dc:title>The Preterit</dc:title>
</cp:coreProperties>
</file>